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475913" cy="734377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3E7D-0E5A-4149-962B-FDB600378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800" y="292680"/>
            <a:ext cx="9428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3800" y="1718280"/>
            <a:ext cx="942804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3800" y="3943080"/>
            <a:ext cx="942804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F88B-3F88-4F02-9A37-FBC275CC7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3800" y="292680"/>
            <a:ext cx="9428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3800" y="1718280"/>
            <a:ext cx="46008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55000" y="1718280"/>
            <a:ext cx="46008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3800" y="3943080"/>
            <a:ext cx="46008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55000" y="3943080"/>
            <a:ext cx="46008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27E4-B72D-4B98-A1AF-EC1A2CB07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800" y="292680"/>
            <a:ext cx="9428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3800" y="1718280"/>
            <a:ext cx="303552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11600" y="1718280"/>
            <a:ext cx="303552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99040" y="1718280"/>
            <a:ext cx="303552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23800" y="3943080"/>
            <a:ext cx="303552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711600" y="3943080"/>
            <a:ext cx="303552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899040" y="3943080"/>
            <a:ext cx="303552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DEC4-AFD7-47AA-8004-0CCEEA3F81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3800" y="292680"/>
            <a:ext cx="9428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523800" y="1718280"/>
            <a:ext cx="94280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8C52-BA1A-4AD4-99DA-9378505E12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3800" y="292680"/>
            <a:ext cx="9428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3800" y="1718280"/>
            <a:ext cx="94280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A3E4-A1BE-4E99-B4FA-F830A1669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3800" y="292680"/>
            <a:ext cx="9428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3800" y="1718280"/>
            <a:ext cx="46008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5000" y="1718280"/>
            <a:ext cx="46008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9592-7D1E-4314-A459-237F59134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3800" y="292680"/>
            <a:ext cx="9428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8179-9FC4-4688-9AD7-3ED203FD1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523800" y="292680"/>
            <a:ext cx="9428040" cy="56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4619-FE17-44D2-A20E-7B1D3C1DF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3800" y="292680"/>
            <a:ext cx="9428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3800" y="1718280"/>
            <a:ext cx="46008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5000" y="1718280"/>
            <a:ext cx="46008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3800" y="3943080"/>
            <a:ext cx="46008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22F6-8700-47CA-8B44-3DBB4F8D0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3800" y="292680"/>
            <a:ext cx="9428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3800" y="1718280"/>
            <a:ext cx="46008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55000" y="1718280"/>
            <a:ext cx="46008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55000" y="3943080"/>
            <a:ext cx="46008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0DA3-EE53-4500-A4C8-782058ECE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3800" y="292680"/>
            <a:ext cx="94280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3800" y="1718280"/>
            <a:ext cx="46008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55000" y="1718280"/>
            <a:ext cx="460080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3800" y="3943080"/>
            <a:ext cx="9428040" cy="203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6D8E-C7C5-40F1-8901-1CA384FF9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0"/>
          <p:cNvSpPr/>
          <p:nvPr/>
        </p:nvSpPr>
        <p:spPr>
          <a:xfrm>
            <a:off x="371520" y="1589040"/>
            <a:ext cx="9840960" cy="424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29"/>
          <p:cNvGrpSpPr/>
          <p:nvPr/>
        </p:nvGrpSpPr>
        <p:grpSpPr>
          <a:xfrm>
            <a:off x="-14040" y="5846760"/>
            <a:ext cx="1634760" cy="1501560"/>
            <a:chOff x="-14040" y="5846760"/>
            <a:chExt cx="1634760" cy="1501560"/>
          </a:xfrm>
        </p:grpSpPr>
        <p:sp>
          <p:nvSpPr>
            <p:cNvPr id="2" name="Rectangle 30"/>
            <p:cNvSpPr/>
            <p:nvPr/>
          </p:nvSpPr>
          <p:spPr>
            <a:xfrm rot="5400000">
              <a:off x="-39600" y="5872320"/>
              <a:ext cx="1501560" cy="1450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desk2"/>
            <p:cNvSpPr/>
            <p:nvPr/>
          </p:nvSpPr>
          <p:spPr>
            <a:xfrm rot="5400000">
              <a:off x="430200" y="5796360"/>
              <a:ext cx="1119600" cy="1260720"/>
            </a:xfrm>
            <a:custGeom>
              <a:avLst/>
              <a:gdLst>
                <a:gd name="textAreaLeft" fmla="*/ 52560 w 1119600"/>
                <a:gd name="textAreaRight" fmla="*/ 1067040 w 1119600"/>
                <a:gd name="textAreaTop" fmla="*/ 689400 h 1260720"/>
                <a:gd name="textAreaBottom" fmla="*/ 1202760 h 12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0"/>
                  </a:lnTo>
                  <a:lnTo>
                    <a:pt x="21600" y="12800"/>
                  </a:lnTo>
                  <a:lnTo>
                    <a:pt x="12800" y="21600"/>
                  </a:lnTo>
                  <a:lnTo>
                    <a:pt x="0" y="21600"/>
                  </a:lnTo>
                  <a:lnTo>
                    <a:pt x="0" y="10800"/>
                  </a:lnTo>
                  <a:lnTo>
                    <a:pt x="5400" y="10800"/>
                  </a:lnTo>
                  <a:lnTo>
                    <a:pt x="10800" y="5400"/>
                  </a:lnTo>
                  <a:lnTo>
                    <a:pt x="1080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" name="Group 26"/>
          <p:cNvGrpSpPr/>
          <p:nvPr/>
        </p:nvGrpSpPr>
        <p:grpSpPr>
          <a:xfrm>
            <a:off x="0" y="0"/>
            <a:ext cx="1607760" cy="1528560"/>
            <a:chOff x="0" y="0"/>
            <a:chExt cx="1607760" cy="1528560"/>
          </a:xfrm>
        </p:grpSpPr>
        <p:sp>
          <p:nvSpPr>
            <p:cNvPr id="5" name="Rectangle 27"/>
            <p:cNvSpPr/>
            <p:nvPr/>
          </p:nvSpPr>
          <p:spPr>
            <a:xfrm rot="10800000">
              <a:off x="0" y="0"/>
              <a:ext cx="1607760" cy="1358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desk2"/>
            <p:cNvSpPr/>
            <p:nvPr/>
          </p:nvSpPr>
          <p:spPr>
            <a:xfrm rot="10800000">
              <a:off x="387360" y="346680"/>
              <a:ext cx="1198800" cy="1181880"/>
            </a:xfrm>
            <a:custGeom>
              <a:avLst/>
              <a:gdLst>
                <a:gd name="textAreaLeft" fmla="*/ 56160 w 1198800"/>
                <a:gd name="textAreaRight" fmla="*/ 1142640 w 1198800"/>
                <a:gd name="textAreaTop" fmla="*/ 646200 h 1181880"/>
                <a:gd name="textAreaBottom" fmla="*/ 1127520 h 118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0"/>
                  </a:lnTo>
                  <a:lnTo>
                    <a:pt x="21600" y="12800"/>
                  </a:lnTo>
                  <a:lnTo>
                    <a:pt x="12800" y="21600"/>
                  </a:lnTo>
                  <a:lnTo>
                    <a:pt x="0" y="21600"/>
                  </a:lnTo>
                  <a:lnTo>
                    <a:pt x="0" y="10800"/>
                  </a:lnTo>
                  <a:lnTo>
                    <a:pt x="5400" y="10800"/>
                  </a:lnTo>
                  <a:lnTo>
                    <a:pt x="10800" y="5400"/>
                  </a:lnTo>
                  <a:lnTo>
                    <a:pt x="1080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" name="Group 23"/>
          <p:cNvGrpSpPr/>
          <p:nvPr/>
        </p:nvGrpSpPr>
        <p:grpSpPr>
          <a:xfrm>
            <a:off x="8883720" y="9720"/>
            <a:ext cx="1634760" cy="1503000"/>
            <a:chOff x="8883720" y="9720"/>
            <a:chExt cx="1634760" cy="1503000"/>
          </a:xfrm>
        </p:grpSpPr>
        <p:sp>
          <p:nvSpPr>
            <p:cNvPr id="8" name="Rectangle 24"/>
            <p:cNvSpPr/>
            <p:nvPr/>
          </p:nvSpPr>
          <p:spPr>
            <a:xfrm rot="16200000">
              <a:off x="9040320" y="34560"/>
              <a:ext cx="1503000" cy="14529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desk2"/>
            <p:cNvSpPr/>
            <p:nvPr/>
          </p:nvSpPr>
          <p:spPr>
            <a:xfrm rot="16200000">
              <a:off x="8955000" y="269640"/>
              <a:ext cx="1120680" cy="1263600"/>
            </a:xfrm>
            <a:custGeom>
              <a:avLst/>
              <a:gdLst>
                <a:gd name="textAreaLeft" fmla="*/ 52560 w 1120680"/>
                <a:gd name="textAreaRight" fmla="*/ 1068120 w 1120680"/>
                <a:gd name="textAreaTop" fmla="*/ 690840 h 1263600"/>
                <a:gd name="textAreaBottom" fmla="*/ 120564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0"/>
                  </a:lnTo>
                  <a:lnTo>
                    <a:pt x="21600" y="12800"/>
                  </a:lnTo>
                  <a:lnTo>
                    <a:pt x="12800" y="21600"/>
                  </a:lnTo>
                  <a:lnTo>
                    <a:pt x="0" y="21600"/>
                  </a:lnTo>
                  <a:lnTo>
                    <a:pt x="0" y="10800"/>
                  </a:lnTo>
                  <a:lnTo>
                    <a:pt x="5400" y="10800"/>
                  </a:lnTo>
                  <a:lnTo>
                    <a:pt x="10800" y="5400"/>
                  </a:lnTo>
                  <a:lnTo>
                    <a:pt x="10800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Group 22"/>
          <p:cNvGrpSpPr/>
          <p:nvPr/>
        </p:nvGrpSpPr>
        <p:grpSpPr>
          <a:xfrm>
            <a:off x="8869320" y="5816520"/>
            <a:ext cx="1607760" cy="1528560"/>
            <a:chOff x="8869320" y="5816520"/>
            <a:chExt cx="1607760" cy="1528560"/>
          </a:xfrm>
        </p:grpSpPr>
        <p:sp>
          <p:nvSpPr>
            <p:cNvPr id="11" name="Rectangle 21"/>
            <p:cNvSpPr/>
            <p:nvPr/>
          </p:nvSpPr>
          <p:spPr>
            <a:xfrm>
              <a:off x="8869320" y="5986440"/>
              <a:ext cx="1607760" cy="1358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desk2"/>
            <p:cNvSpPr/>
            <p:nvPr/>
          </p:nvSpPr>
          <p:spPr>
            <a:xfrm>
              <a:off x="8890920" y="5816520"/>
              <a:ext cx="1198800" cy="1181520"/>
            </a:xfrm>
            <a:custGeom>
              <a:avLst/>
              <a:gdLst>
                <a:gd name="textAreaLeft" fmla="*/ 56160 w 1198800"/>
                <a:gd name="textAreaRight" fmla="*/ 1142640 w 1198800"/>
                <a:gd name="textAreaTop" fmla="*/ 646200 h 1181520"/>
                <a:gd name="textAreaBottom" fmla="*/ 1127160 h 118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0"/>
                  </a:lnTo>
                  <a:lnTo>
                    <a:pt x="21600" y="12800"/>
                  </a:lnTo>
                  <a:lnTo>
                    <a:pt x="12800" y="21600"/>
                  </a:lnTo>
                  <a:lnTo>
                    <a:pt x="0" y="21600"/>
                  </a:lnTo>
                  <a:lnTo>
                    <a:pt x="0" y="10800"/>
                  </a:lnTo>
                  <a:lnTo>
                    <a:pt x="5400" y="10800"/>
                  </a:lnTo>
                  <a:lnTo>
                    <a:pt x="10800" y="5400"/>
                  </a:lnTo>
                  <a:lnTo>
                    <a:pt x="10800" y="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sldNum" idx="1"/>
          </p:nvPr>
        </p:nvSpPr>
        <p:spPr>
          <a:xfrm>
            <a:off x="7508520" y="6688080"/>
            <a:ext cx="2444760" cy="511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0941-354D-4CDA-A75E-76C82DE1915D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14"/>
          <p:cNvSpPr/>
          <p:nvPr/>
        </p:nvSpPr>
        <p:spPr>
          <a:xfrm>
            <a:off x="338040" y="0"/>
            <a:ext cx="9736200" cy="357120"/>
          </a:xfrm>
          <a:custGeom>
            <a:avLst/>
            <a:gdLst>
              <a:gd name="textAreaLeft" fmla="*/ 3651120 w 9736200"/>
              <a:gd name="textAreaRight" fmla="*/ 6085080 w 97362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arcTo wR="675" hR="0" stAng="16200000" swAng="-5400000"/>
                <a:lnTo>
                  <a:pt x="10800" y="0"/>
                </a:lnTo>
                <a:lnTo>
                  <a:pt x="10800" y="0"/>
                </a:lnTo>
                <a:lnTo>
                  <a:pt x="10800" y="0"/>
                </a:lnTo>
                <a:arcTo wR="675" hR="0" stAng="10800000" swAng="-5400000"/>
                <a:lnTo>
                  <a:pt x="21600" y="0"/>
                </a:lnTo>
                <a:lnTo>
                  <a:pt x="18900" y="10800"/>
                </a:lnTo>
                <a:lnTo>
                  <a:pt x="21600" y="21600"/>
                </a:lnTo>
                <a:lnTo>
                  <a:pt x="13500" y="21600"/>
                </a:lnTo>
                <a:lnTo>
                  <a:pt x="13500" y="21600"/>
                </a:lnTo>
                <a:arcTo wR="675" hR="0" stAng="0" swAng="-5400000"/>
                <a:lnTo>
                  <a:pt x="8775" y="21600"/>
                </a:lnTo>
                <a:arcTo wR="675" hR="0" stAng="16200000" swAng="-5400000"/>
                <a:lnTo>
                  <a:pt x="81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  <a:path fill="none" w="21600" h="21600">
                <a:moveTo>
                  <a:pt x="10800" y="0"/>
                </a:moveTo>
                <a:arcTo wR="675" hR="0" stAng="0" swAng="-5400000"/>
                <a:lnTo>
                  <a:pt x="8775" y="0"/>
                </a:lnTo>
                <a:arcTo wR="675" hR="0" stAng="16200000" swAng="-5400000"/>
                <a:arcTo wR="675" hR="0" stAng="10800000" swAng="-5400000"/>
                <a:lnTo>
                  <a:pt x="10800" y="0"/>
                </a:lnTo>
              </a:path>
              <a:path fill="none" w="21600" h="21600">
                <a:moveTo>
                  <a:pt x="10800" y="0"/>
                </a:moveTo>
                <a:arcTo wR="675" hR="0" stAng="10800000" swAng="-5400000"/>
                <a:lnTo>
                  <a:pt x="12825" y="0"/>
                </a:lnTo>
                <a:arcTo wR="675" hR="0" stAng="16200000" swAng="-5400000"/>
                <a:arcTo wR="675" hR="0" stAng="0" swAng="-5400000"/>
                <a:lnTo>
                  <a:pt x="10800" y="0"/>
                </a:lnTo>
              </a:path>
              <a:path fill="none" w="21600" h="21600">
                <a:moveTo>
                  <a:pt x="8100" y="0"/>
                </a:moveTo>
                <a:lnTo>
                  <a:pt x="8100" y="21600"/>
                </a:lnTo>
              </a:path>
              <a:path fill="none" w="21600" h="21600">
                <a:moveTo>
                  <a:pt x="13500" y="0"/>
                </a:moveTo>
                <a:lnTo>
                  <a:pt x="13500" y="2160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16"/>
          <p:cNvSpPr/>
          <p:nvPr/>
        </p:nvSpPr>
        <p:spPr>
          <a:xfrm rot="5400000">
            <a:off x="-3154320" y="3471840"/>
            <a:ext cx="6657840" cy="380880"/>
          </a:xfrm>
          <a:custGeom>
            <a:avLst/>
            <a:gdLst>
              <a:gd name="textAreaLeft" fmla="*/ 2496600 w 6657840"/>
              <a:gd name="textAreaRight" fmla="*/ 4161240 w 66578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arcTo wR="675" hR="0" stAng="16200000" swAng="-5400000"/>
                <a:lnTo>
                  <a:pt x="10800" y="0"/>
                </a:lnTo>
                <a:lnTo>
                  <a:pt x="10800" y="0"/>
                </a:lnTo>
                <a:lnTo>
                  <a:pt x="10800" y="0"/>
                </a:lnTo>
                <a:arcTo wR="675" hR="0" stAng="10800000" swAng="-5400000"/>
                <a:lnTo>
                  <a:pt x="21600" y="0"/>
                </a:lnTo>
                <a:lnTo>
                  <a:pt x="18900" y="10800"/>
                </a:lnTo>
                <a:lnTo>
                  <a:pt x="21600" y="21600"/>
                </a:lnTo>
                <a:lnTo>
                  <a:pt x="13500" y="21600"/>
                </a:lnTo>
                <a:lnTo>
                  <a:pt x="13500" y="21600"/>
                </a:lnTo>
                <a:arcTo wR="675" hR="0" stAng="0" swAng="-5400000"/>
                <a:lnTo>
                  <a:pt x="8775" y="21600"/>
                </a:lnTo>
                <a:arcTo wR="675" hR="0" stAng="16200000" swAng="-5400000"/>
                <a:lnTo>
                  <a:pt x="81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  <a:path fill="none" w="21600" h="21600">
                <a:moveTo>
                  <a:pt x="10800" y="0"/>
                </a:moveTo>
                <a:arcTo wR="675" hR="0" stAng="0" swAng="-5400000"/>
                <a:lnTo>
                  <a:pt x="8775" y="0"/>
                </a:lnTo>
                <a:arcTo wR="675" hR="0" stAng="16200000" swAng="-5400000"/>
                <a:arcTo wR="675" hR="0" stAng="10800000" swAng="-5400000"/>
                <a:lnTo>
                  <a:pt x="10800" y="0"/>
                </a:lnTo>
              </a:path>
              <a:path fill="none" w="21600" h="21600">
                <a:moveTo>
                  <a:pt x="10800" y="0"/>
                </a:moveTo>
                <a:arcTo wR="675" hR="0" stAng="10800000" swAng="-5400000"/>
                <a:lnTo>
                  <a:pt x="12825" y="0"/>
                </a:lnTo>
                <a:arcTo wR="675" hR="0" stAng="16200000" swAng="-5400000"/>
                <a:arcTo wR="675" hR="0" stAng="0" swAng="-5400000"/>
                <a:lnTo>
                  <a:pt x="10800" y="0"/>
                </a:lnTo>
              </a:path>
              <a:path fill="none" w="21600" h="21600">
                <a:moveTo>
                  <a:pt x="8100" y="0"/>
                </a:moveTo>
                <a:lnTo>
                  <a:pt x="8100" y="21600"/>
                </a:lnTo>
              </a:path>
              <a:path fill="none" w="21600" h="21600">
                <a:moveTo>
                  <a:pt x="13500" y="0"/>
                </a:moveTo>
                <a:lnTo>
                  <a:pt x="13500" y="2160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17"/>
          <p:cNvSpPr/>
          <p:nvPr/>
        </p:nvSpPr>
        <p:spPr>
          <a:xfrm rot="5400000">
            <a:off x="6949440" y="3497040"/>
            <a:ext cx="6726240" cy="382680"/>
          </a:xfrm>
          <a:custGeom>
            <a:avLst/>
            <a:gdLst>
              <a:gd name="textAreaLeft" fmla="*/ 2522160 w 6726240"/>
              <a:gd name="textAreaRight" fmla="*/ 4204080 w 67262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arcTo wR="675" hR="0" stAng="16200000" swAng="-5400000"/>
                <a:lnTo>
                  <a:pt x="10800" y="0"/>
                </a:lnTo>
                <a:lnTo>
                  <a:pt x="10800" y="0"/>
                </a:lnTo>
                <a:lnTo>
                  <a:pt x="10800" y="0"/>
                </a:lnTo>
                <a:arcTo wR="675" hR="0" stAng="10800000" swAng="-5400000"/>
                <a:lnTo>
                  <a:pt x="21600" y="0"/>
                </a:lnTo>
                <a:lnTo>
                  <a:pt x="18900" y="10800"/>
                </a:lnTo>
                <a:lnTo>
                  <a:pt x="21600" y="21600"/>
                </a:lnTo>
                <a:lnTo>
                  <a:pt x="13500" y="21600"/>
                </a:lnTo>
                <a:lnTo>
                  <a:pt x="13500" y="21600"/>
                </a:lnTo>
                <a:arcTo wR="675" hR="0" stAng="0" swAng="-5400000"/>
                <a:lnTo>
                  <a:pt x="8775" y="21600"/>
                </a:lnTo>
                <a:arcTo wR="675" hR="0" stAng="16200000" swAng="-5400000"/>
                <a:lnTo>
                  <a:pt x="81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  <a:path fill="none" w="21600" h="21600">
                <a:moveTo>
                  <a:pt x="10800" y="0"/>
                </a:moveTo>
                <a:arcTo wR="675" hR="0" stAng="0" swAng="-5400000"/>
                <a:lnTo>
                  <a:pt x="8775" y="0"/>
                </a:lnTo>
                <a:arcTo wR="675" hR="0" stAng="16200000" swAng="-5400000"/>
                <a:arcTo wR="675" hR="0" stAng="10800000" swAng="-5400000"/>
                <a:lnTo>
                  <a:pt x="10800" y="0"/>
                </a:lnTo>
              </a:path>
              <a:path fill="none" w="21600" h="21600">
                <a:moveTo>
                  <a:pt x="10800" y="0"/>
                </a:moveTo>
                <a:arcTo wR="675" hR="0" stAng="10800000" swAng="-5400000"/>
                <a:lnTo>
                  <a:pt x="12825" y="0"/>
                </a:lnTo>
                <a:arcTo wR="675" hR="0" stAng="16200000" swAng="-5400000"/>
                <a:arcTo wR="675" hR="0" stAng="0" swAng="-5400000"/>
                <a:lnTo>
                  <a:pt x="10800" y="0"/>
                </a:lnTo>
              </a:path>
              <a:path fill="none" w="21600" h="21600">
                <a:moveTo>
                  <a:pt x="8100" y="0"/>
                </a:moveTo>
                <a:lnTo>
                  <a:pt x="8100" y="21600"/>
                </a:lnTo>
              </a:path>
              <a:path fill="none" w="21600" h="21600">
                <a:moveTo>
                  <a:pt x="13500" y="0"/>
                </a:moveTo>
                <a:lnTo>
                  <a:pt x="13500" y="2160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18"/>
          <p:cNvSpPr/>
          <p:nvPr/>
        </p:nvSpPr>
        <p:spPr>
          <a:xfrm>
            <a:off x="371520" y="6988320"/>
            <a:ext cx="9734400" cy="357120"/>
          </a:xfrm>
          <a:custGeom>
            <a:avLst/>
            <a:gdLst>
              <a:gd name="textAreaLeft" fmla="*/ 3650400 w 9734400"/>
              <a:gd name="textAreaRight" fmla="*/ 6084000 w 9734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arcTo wR="675" hR="0" stAng="16200000" swAng="-5400000"/>
                <a:lnTo>
                  <a:pt x="10800" y="0"/>
                </a:lnTo>
                <a:lnTo>
                  <a:pt x="10800" y="0"/>
                </a:lnTo>
                <a:lnTo>
                  <a:pt x="10800" y="0"/>
                </a:lnTo>
                <a:arcTo wR="675" hR="0" stAng="10800000" swAng="-5400000"/>
                <a:lnTo>
                  <a:pt x="21600" y="0"/>
                </a:lnTo>
                <a:lnTo>
                  <a:pt x="18900" y="10800"/>
                </a:lnTo>
                <a:lnTo>
                  <a:pt x="21600" y="21600"/>
                </a:lnTo>
                <a:lnTo>
                  <a:pt x="13500" y="21600"/>
                </a:lnTo>
                <a:lnTo>
                  <a:pt x="13500" y="21600"/>
                </a:lnTo>
                <a:arcTo wR="675" hR="0" stAng="0" swAng="-5400000"/>
                <a:lnTo>
                  <a:pt x="8775" y="21600"/>
                </a:lnTo>
                <a:arcTo wR="675" hR="0" stAng="16200000" swAng="-5400000"/>
                <a:lnTo>
                  <a:pt x="81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  <a:path fill="none" w="21600" h="21600">
                <a:moveTo>
                  <a:pt x="10800" y="0"/>
                </a:moveTo>
                <a:arcTo wR="675" hR="0" stAng="0" swAng="-5400000"/>
                <a:lnTo>
                  <a:pt x="8775" y="0"/>
                </a:lnTo>
                <a:arcTo wR="675" hR="0" stAng="16200000" swAng="-5400000"/>
                <a:arcTo wR="675" hR="0" stAng="10800000" swAng="-5400000"/>
                <a:lnTo>
                  <a:pt x="10800" y="0"/>
                </a:lnTo>
              </a:path>
              <a:path fill="none" w="21600" h="21600">
                <a:moveTo>
                  <a:pt x="10800" y="0"/>
                </a:moveTo>
                <a:arcTo wR="675" hR="0" stAng="10800000" swAng="-5400000"/>
                <a:lnTo>
                  <a:pt x="12825" y="0"/>
                </a:lnTo>
                <a:arcTo wR="675" hR="0" stAng="16200000" swAng="-5400000"/>
                <a:arcTo wR="675" hR="0" stAng="0" swAng="-5400000"/>
                <a:lnTo>
                  <a:pt x="10800" y="0"/>
                </a:lnTo>
              </a:path>
              <a:path fill="none" w="21600" h="21600">
                <a:moveTo>
                  <a:pt x="8100" y="0"/>
                </a:moveTo>
                <a:lnTo>
                  <a:pt x="8100" y="21600"/>
                </a:lnTo>
              </a:path>
              <a:path fill="none" w="21600" h="21600">
                <a:moveTo>
                  <a:pt x="13500" y="0"/>
                </a:moveTo>
                <a:lnTo>
                  <a:pt x="13500" y="2160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56"/>
          <p:cNvSpPr/>
          <p:nvPr/>
        </p:nvSpPr>
        <p:spPr>
          <a:xfrm>
            <a:off x="1360440" y="357120"/>
            <a:ext cx="7756560" cy="4618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57"/>
          <p:cNvSpPr/>
          <p:nvPr/>
        </p:nvSpPr>
        <p:spPr>
          <a:xfrm rot="10800000">
            <a:off x="1442880" y="6540480"/>
            <a:ext cx="7755120" cy="463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4"/>
          <p:cNvSpPr txBox="1"/>
          <p:nvPr/>
        </p:nvSpPr>
        <p:spPr>
          <a:xfrm>
            <a:off x="1195560" y="1974960"/>
            <a:ext cx="833256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1" strike="noStrike" u="sng">
                <a:ln w="0">
                  <a:noFill/>
                </a:ln>
                <a:solidFill>
                  <a:srgbClr val="0000cc"/>
                </a:solidFill>
                <a:uFillTx/>
                <a:latin typeface="Times New Roman"/>
              </a:rPr>
              <a:t> </a:t>
            </a:r>
            <a:endParaRPr b="1" lang="en-US" sz="2200" spc="1" strike="noStrike" u="sng">
              <a:ln w="0">
                <a:noFill/>
              </a:ln>
              <a:solidFill>
                <a:srgbClr val="0000cc"/>
              </a:solidFill>
              <a:uFillTx/>
              <a:latin typeface="Times New Roman"/>
              <a:ea typeface="Times New Roman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809640" y="1600200"/>
            <a:ext cx="91440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00cc"/>
                </a:solidFill>
                <a:latin typeface="Times New Roman"/>
              </a:rPr>
              <a:t>Бастауыш сынып оқушыларының коммуникативтік құзіреттілігін арттырудың тиімді жолдары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1"/>
          <p:cNvSpPr/>
          <p:nvPr/>
        </p:nvSpPr>
        <p:spPr>
          <a:xfrm>
            <a:off x="452520" y="424080"/>
            <a:ext cx="9715320" cy="3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хема 2" descr=""/>
          <p:cNvPicPr/>
          <p:nvPr/>
        </p:nvPicPr>
        <p:blipFill>
          <a:blip r:embed="rId1"/>
          <a:stretch/>
        </p:blipFill>
        <p:spPr>
          <a:xfrm>
            <a:off x="414360" y="517680"/>
            <a:ext cx="9717120" cy="644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58720" y="1152000"/>
            <a:ext cx="9429840" cy="4846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стауыш сынып оқушыларын оқыту барысында өзіндік ой-толғамын жеткізе алатын, кез келген адаммен тілдік қарым- қатынасқа түсе алатын, коммуникабельді, іскер азамат тәрбиелеп шығару арқылы коммуникативтік құзіреттіліктерін арттырудың тиімді жолында атқарар еңбектері әлі де ал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52520" y="1118520"/>
            <a:ext cx="9715320" cy="49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Құзыреттілік» терминіне алғаш анықтама беріп, лингвистикаға енгізген американдық ғалым Н.Хомский. Оның пайымдауынша, құзыреттілік термині грамматика білімдеріне негізделеді. Жалпы алғанда, құзыреттілік дегеніміз- жеке тұлғаның белгілі бір мәселені шешудегі өзара байланысты білім, білік дағдыларының жиынтығы және адамның жеке өзінің іс- әрекет, қызмет саласына сай құзыреттерді меңгеруі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4"/>
          <p:cNvSpPr/>
          <p:nvPr/>
        </p:nvSpPr>
        <p:spPr>
          <a:xfrm>
            <a:off x="949320" y="3164040"/>
            <a:ext cx="8248680" cy="37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371520" y="277920"/>
            <a:ext cx="9734400" cy="68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4400" spc="-1" strike="noStrike">
                <a:solidFill>
                  <a:srgbClr val="0000cc"/>
                </a:solidFill>
                <a:latin typeface="Times New Roman"/>
              </a:rPr>
              <a:t>Құзіреттілік  дегеніміз </a:t>
            </a: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- оқушының алған білімі мен дағдыларын тәжірибеде, күнделікті өмірде қандай да бір практикалық және теориялық проблемаларды шешу үшін қолдана алу қабілеттілігі. Бастауыш сынып оқушыларының коммуникативтік құзыреттіліктерін қалыптастыруда қатысымдық әдістің маңызы зор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3800" y="293760"/>
            <a:ext cx="94298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314280"/>
            <a:ext cx="10477440" cy="6246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88000"/>
          </a:bodyPr>
          <a:p>
            <a:pPr marL="335160" indent="-335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муникативтік құзіреттілік өз ана тілін және басқа тілді білудегі қабілеттілігін қарастырад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 құрамына қарай 5 негізгі бөлікке  бөлінед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 Грамматикалық құзіреттілік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Социолингвистикалық  құзіреттілік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искурсивті  құзіреттілік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ратегиялық құзіреттілік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циомәдениеттік құзіреттілі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хема 3" descr=""/>
          <p:cNvPicPr/>
          <p:nvPr/>
        </p:nvPicPr>
        <p:blipFill>
          <a:blip r:embed="rId1"/>
          <a:stretch/>
        </p:blipFill>
        <p:spPr>
          <a:xfrm>
            <a:off x="-12600" y="-23760"/>
            <a:ext cx="10558440" cy="738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19160" y="3040200"/>
            <a:ext cx="10477440" cy="570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lvl="1" marL="826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ұрақ – жауап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ұғалім мен оқушылар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лог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қушы мен оқушы, мұғалім мен оқуш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атыс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ұғалім мен оқушылар, оқушы мен оқушы, мұғалім мен оқуш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зыл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қырыпқа байланысты мәтінмен жұмы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44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237960" y="385920"/>
            <a:ext cx="9786960" cy="23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Оқушылардың коммуникативтік </a:t>
            </a:r>
            <a:endParaRPr b="0" lang="en-US" sz="40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құзыреттілігін дамыту</a:t>
            </a:r>
            <a:endParaRPr b="0" lang="en-US" sz="40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үшін жүргізілетін жұмыс түрлері төмендегідей:</a:t>
            </a:r>
            <a:endParaRPr b="0" lang="en-US" sz="40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8"/>
          <p:cNvSpPr/>
          <p:nvPr/>
        </p:nvSpPr>
        <p:spPr>
          <a:xfrm>
            <a:off x="4083120" y="2811240"/>
            <a:ext cx="2227320" cy="3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2927520" y="1253880"/>
            <a:ext cx="4622760" cy="3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9"/>
          <p:cNvSpPr/>
          <p:nvPr/>
        </p:nvSpPr>
        <p:spPr>
          <a:xfrm flipH="1">
            <a:off x="2846160" y="3998880"/>
            <a:ext cx="2144520" cy="9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60"/>
          <p:cNvSpPr/>
          <p:nvPr/>
        </p:nvSpPr>
        <p:spPr>
          <a:xfrm>
            <a:off x="4991040" y="399888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1"/>
          <p:cNvSpPr/>
          <p:nvPr/>
        </p:nvSpPr>
        <p:spPr>
          <a:xfrm>
            <a:off x="4991040" y="3998880"/>
            <a:ext cx="2559240" cy="22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2"/>
          <p:cNvSpPr/>
          <p:nvPr/>
        </p:nvSpPr>
        <p:spPr>
          <a:xfrm>
            <a:off x="393120" y="4993560"/>
            <a:ext cx="4299480" cy="57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ff"/>
                </a:solidFill>
                <a:latin typeface="Times New Roman"/>
              </a:rPr>
              <a:t>Сыни тұрғыдан  ойлау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3"/>
          <p:cNvSpPr/>
          <p:nvPr/>
        </p:nvSpPr>
        <p:spPr>
          <a:xfrm>
            <a:off x="4248000" y="5565240"/>
            <a:ext cx="1495440" cy="57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ff"/>
                </a:solidFill>
                <a:latin typeface="Times New Roman"/>
              </a:rPr>
              <a:t>Диалог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4"/>
          <p:cNvSpPr/>
          <p:nvPr/>
        </p:nvSpPr>
        <p:spPr>
          <a:xfrm>
            <a:off x="6484680" y="6238800"/>
            <a:ext cx="3276720" cy="57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ff"/>
                </a:solidFill>
                <a:latin typeface="Times New Roman"/>
              </a:rPr>
              <a:t>Рольдік ойындар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WordArt 6" descr=""/>
          <p:cNvPicPr/>
          <p:nvPr/>
        </p:nvPicPr>
        <p:blipFill>
          <a:blip r:embed="rId1"/>
          <a:stretch/>
        </p:blipFill>
        <p:spPr>
          <a:xfrm>
            <a:off x="237960" y="384120"/>
            <a:ext cx="9790200" cy="36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9429840" cy="1224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ыни ойлау күрделі үрдіс болғандықтан, оқушыға сыни ойлау ортасын жасау қажет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л ортада оқушы:</a:t>
            </a:r>
            <a:endParaRPr b="0" lang="en-US" sz="32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9600" y="1456920"/>
            <a:ext cx="10501200" cy="48466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лауға үйрену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зара пікірлерімен санаса біл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р оқушыға сын тұрғысынан ойлауды қабілеті бар екендігін есен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кін жұмыс істеуге мүмкіндік бер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 тұрғысынан ойлау қалыптасқан ортада оқуш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қты мақсат қоюға дағдылан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зіне деген сенімді ар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 процесіне белсенді қатыс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лдастарының пікірін сыйлай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зін толғандыратын, проблемалық сұрақтар қоя біледі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5"/>
          <p:cNvSpPr/>
          <p:nvPr/>
        </p:nvSpPr>
        <p:spPr>
          <a:xfrm rot="10800000">
            <a:off x="595080" y="1456920"/>
            <a:ext cx="9429480" cy="2859120"/>
          </a:xfrm>
          <a:custGeom>
            <a:avLst/>
            <a:gdLst>
              <a:gd name="textAreaLeft" fmla="*/ 0 w 9429480"/>
              <a:gd name="textAreaRight" fmla="*/ 9429840 w 9429480"/>
              <a:gd name="textAreaTop" fmla="*/ 0 h 2859120"/>
              <a:gd name="textAreaBottom" fmla="*/ 2859480 h 285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57" y="0"/>
                </a:lnTo>
                <a:lnTo>
                  <a:pt x="21600" y="10800"/>
                </a:lnTo>
                <a:lnTo>
                  <a:pt x="201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әтінмен жұмысқа арналған стратегиялар :</a:t>
            </a:r>
            <a:br>
              <a:rPr sz="2400"/>
            </a:b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Жигсо, Жигсо -1, Инсерт, ойланып оқу стратегиялар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рқылы оқушы тек қана жаңа ақпарат алып қана қоймайд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л тақырыптың негізгі түйінін жасап, тақырып бойын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йқозғап, өзбетімен білім алуға белсенділігі артад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өз пікірін ортаға салады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 rot="10800000">
            <a:off x="809280" y="4458960"/>
            <a:ext cx="8643960" cy="2643120"/>
          </a:xfrm>
          <a:custGeom>
            <a:avLst/>
            <a:gdLst>
              <a:gd name="textAreaLeft" fmla="*/ 0 w 8643960"/>
              <a:gd name="textAreaRight" fmla="*/ 8643960 w 864396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16" y="0"/>
                </a:lnTo>
                <a:lnTo>
                  <a:pt x="21600" y="10800"/>
                </a:lnTo>
                <a:lnTo>
                  <a:pt x="204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қушылар топпен жұмыс жүргізуге дағдылана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Жазбаша стратегиялар:еркін жазу, 5 минутты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эссе сияқты стратегиялар аркылы оқуш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берілген тақырып бойынша өзінің пікірі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ойын, аргументтерін жаза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WordArt 10"/>
          <p:cNvSpPr txBox="1"/>
          <p:nvPr/>
        </p:nvSpPr>
        <p:spPr>
          <a:xfrm>
            <a:off x="34920" y="541440"/>
            <a:ext cx="10442520" cy="8794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Бұл жағдайда жүзеге асыруға бізге көмекке СТО стратегиялары келеді.</a:t>
            </a:r>
            <a:endParaRPr b="0" lang="en-US" sz="40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8:07:14Z</dcterms:created>
  <dc:creator>Салтанат</dc:creator>
  <dc:description/>
  <dc:language>en-US</dc:language>
  <cp:lastModifiedBy>user</cp:lastModifiedBy>
  <dcterms:modified xsi:type="dcterms:W3CDTF">2014-12-11T09:25:18Z</dcterms:modified>
  <cp:revision>48</cp:revision>
  <dc:subject/>
  <dc:title>Слайд 1</dc:title>
</cp:coreProperties>
</file>